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</p:sldMasterIdLst>
  <p:notesMasterIdLst>
    <p:notesMasterId r:id="rId21"/>
  </p:notesMasterIdLst>
  <p:sldIdLst>
    <p:sldId id="256" r:id="rId22"/>
    <p:sldId id="257" r:id="rId23"/>
    <p:sldId id="258" r:id="rId24"/>
    <p:sldId id="259" r:id="rId25"/>
    <p:sldId id="260" r:id="rId26"/>
    <p:sldId id="261" r:id="rId27"/>
    <p:sldId id="262" r:id="rId28"/>
    <p:sldId id="263" r:id="rId29"/>
    <p:sldId id="264" r:id="rId30"/>
    <p:sldId id="265" r:id="rId31"/>
    <p:sldId id="266" r:id="rId32"/>
    <p:sldId id="267" r:id="rId33"/>
    <p:sldId id="268" r:id="rId34"/>
    <p:sldId id="269" r:id="rId35"/>
    <p:sldId id="270" r:id="rId36"/>
    <p:sldId id="271" r:id="rId37"/>
    <p:sldId id="272" r:id="rId38"/>
    <p:sldId id="273" r:id="rId39"/>
    <p:sldId id="274" r:id="rId40"/>
    <p:sldId id="275" r:id="rId41"/>
    <p:sldId id="276" r:id="rId42"/>
    <p:sldId id="277" r:id="rId43"/>
    <p:sldId id="278" r:id="rId44"/>
    <p:sldId id="279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notesMaster" Target="notesMasters/notesMaster1.xml"/><Relationship Id="rId22" Type="http://schemas.openxmlformats.org/officeDocument/2006/relationships/slide" Target="slides/slide1.xml"/><Relationship Id="rId23" Type="http://schemas.openxmlformats.org/officeDocument/2006/relationships/slide" Target="slides/slide2.xml"/><Relationship Id="rId24" Type="http://schemas.openxmlformats.org/officeDocument/2006/relationships/slide" Target="slides/slide3.xml"/><Relationship Id="rId25" Type="http://schemas.openxmlformats.org/officeDocument/2006/relationships/slide" Target="slides/slide4.xml"/><Relationship Id="rId26" Type="http://schemas.openxmlformats.org/officeDocument/2006/relationships/slide" Target="slides/slide5.xml"/><Relationship Id="rId27" Type="http://schemas.openxmlformats.org/officeDocument/2006/relationships/slide" Target="slides/slide6.xml"/><Relationship Id="rId28" Type="http://schemas.openxmlformats.org/officeDocument/2006/relationships/slide" Target="slides/slide7.xml"/><Relationship Id="rId29" Type="http://schemas.openxmlformats.org/officeDocument/2006/relationships/slide" Target="slides/slide8.xml"/><Relationship Id="rId30" Type="http://schemas.openxmlformats.org/officeDocument/2006/relationships/slide" Target="slides/slide9.xml"/><Relationship Id="rId31" Type="http://schemas.openxmlformats.org/officeDocument/2006/relationships/slide" Target="slides/slide10.xml"/><Relationship Id="rId32" Type="http://schemas.openxmlformats.org/officeDocument/2006/relationships/slide" Target="slides/slide11.xml"/><Relationship Id="rId33" Type="http://schemas.openxmlformats.org/officeDocument/2006/relationships/slide" Target="slides/slide12.xml"/><Relationship Id="rId34" Type="http://schemas.openxmlformats.org/officeDocument/2006/relationships/slide" Target="slides/slide13.xml"/><Relationship Id="rId35" Type="http://schemas.openxmlformats.org/officeDocument/2006/relationships/slide" Target="slides/slide14.xml"/><Relationship Id="rId36" Type="http://schemas.openxmlformats.org/officeDocument/2006/relationships/slide" Target="slides/slide15.xml"/><Relationship Id="rId37" Type="http://schemas.openxmlformats.org/officeDocument/2006/relationships/slide" Target="slides/slide16.xml"/><Relationship Id="rId38" Type="http://schemas.openxmlformats.org/officeDocument/2006/relationships/slide" Target="slides/slide17.xml"/><Relationship Id="rId39" Type="http://schemas.openxmlformats.org/officeDocument/2006/relationships/slide" Target="slides/slide18.xml"/><Relationship Id="rId40" Type="http://schemas.openxmlformats.org/officeDocument/2006/relationships/slide" Target="slides/slide19.xml"/><Relationship Id="rId41" Type="http://schemas.openxmlformats.org/officeDocument/2006/relationships/slide" Target="slides/slide20.xml"/><Relationship Id="rId42" Type="http://schemas.openxmlformats.org/officeDocument/2006/relationships/slide" Target="slides/slide21.xml"/><Relationship Id="rId43" Type="http://schemas.openxmlformats.org/officeDocument/2006/relationships/slide" Target="slides/slide22.xml"/><Relationship Id="rId44" Type="http://schemas.openxmlformats.org/officeDocument/2006/relationships/slide" Target="slides/slide23.xml"/><Relationship Id="rId45" Type="http://schemas.openxmlformats.org/officeDocument/2006/relationships/slide" Target="slides/slide24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7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 type="dt" idx="5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54a6f"/>
                </a:solidFill>
                <a:latin typeface="Century Gothic Bold"/>
              </a:rPr>
              <a:t>Click to move the slide</a:t>
            </a: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5"/>
          <p:cNvSpPr>
            <a:spLocks noGrp="1"/>
          </p:cNvSpPr>
          <p:nvPr>
            <p:ph type="ftr" idx="5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00000"/>
                </a:solidFill>
                <a:latin typeface="Times New Roman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PlaceHolder 6"/>
          <p:cNvSpPr>
            <a:spLocks noGrp="1"/>
          </p:cNvSpPr>
          <p:nvPr>
            <p:ph type="sldNum" idx="5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5FDCD-23FC-4DD7-B08C-5ADE15E8A4E9}" type="slidenum">
              <a:rPr b="0" lang="lt-L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54a6f"/>
                </a:solidFill>
                <a:latin typeface="Arial"/>
                <a:ea typeface="Arial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1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54a6f"/>
                </a:solidFill>
                <a:latin typeface="Arial"/>
                <a:ea typeface="Arial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4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54a6f"/>
                </a:solidFill>
                <a:latin typeface="Arial"/>
                <a:ea typeface="Arial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54a6f"/>
                </a:solidFill>
                <a:latin typeface="Arial"/>
                <a:ea typeface="Arial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0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54a6f"/>
                </a:solidFill>
                <a:latin typeface="Arial"/>
                <a:ea typeface="Arial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54a6f"/>
                </a:solidFill>
                <a:latin typeface="Arial"/>
                <a:ea typeface="Arial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54a6f"/>
                </a:solidFill>
                <a:latin typeface="Arial"/>
                <a:ea typeface="Arial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54a6f"/>
                </a:solidFill>
                <a:latin typeface="Arial"/>
                <a:ea typeface="Arial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54a6f"/>
                </a:solidFill>
                <a:latin typeface="Arial"/>
                <a:ea typeface="Arial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54a6f"/>
                </a:solidFill>
                <a:latin typeface="Arial"/>
                <a:ea typeface="Arial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54a6f"/>
                </a:solidFill>
                <a:latin typeface="Arial"/>
                <a:ea typeface="Arial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54a6f"/>
                </a:solidFill>
                <a:latin typeface="Arial"/>
                <a:ea typeface="Arial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54a6f"/>
                </a:solidFill>
                <a:latin typeface="Arial"/>
                <a:ea typeface="Arial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54a6f"/>
                </a:solidFill>
                <a:latin typeface="Arial"/>
                <a:ea typeface="Arial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54a6f"/>
                </a:solidFill>
                <a:latin typeface="Arial"/>
                <a:ea typeface="Arial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54a6f"/>
                </a:solidFill>
                <a:latin typeface="Arial"/>
                <a:ea typeface="Arial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54a6f"/>
                </a:solidFill>
                <a:latin typeface="Arial"/>
                <a:ea typeface="Arial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6B07A7A-BE60-411D-AA1B-060F5254D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07F2862-1015-45B7-9DB8-02B634F7E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CA9FB44-D715-4DC4-AB22-E5E8C22A0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C162490-6261-4BAF-93CC-944003DA8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AE1202D-4DF6-41E4-B691-76DB3FD5C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2F20F37-CE3A-44A2-8EC1-9D388D1C5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05C965D-C88C-48A1-9F07-642A9502A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AC38BE7-44AF-47F7-BE00-D434FEDB8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595B5E7-B4D9-4CAD-8874-5599BB022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4605B00-642E-4D06-A2DE-0DDF4E7AA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4D09CE0-D8A7-4CAA-AF75-E936C465A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5BA33ED-BE34-49D6-83C5-031476D6D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16271A2-3D5F-4D61-A49A-23E59E0A7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883F480-5ED7-487D-98DB-0A337DD54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B8C18BB-6E70-48D4-8079-A1A7D318C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59AF32B-B112-43BD-8B1D-A5E44730E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445E17C-84F5-4458-AB04-5147CFCC9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5EE2A16-C380-4812-808F-96BDDF4A7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E483F90-447E-4B19-851D-82F20F6D5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24406D7-14B2-43FB-95EA-61F5F1E75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9C9378D-3700-44BE-B1D2-D7620F299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2DD872E-DA94-491C-80DF-1B3593638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028D9AE-FB74-483D-B1C6-4E2C9ACE9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73EC6EC-056D-49D5-98DC-A7D160D9F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F633701-A5BC-49C6-9589-28EB1AA26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9C7A943-AA9B-4B7E-8940-177106130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0D0458E-6FD8-4C20-997C-08EFF6A37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B6CA8C5-5ED1-4D51-8967-B6FA3070D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F21FAD0-2757-4681-994E-E18CF81DC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63E5509-803F-4EEF-A113-B9C3C22BC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0EC07B-295D-47A8-B454-CFF4C01B7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F62D401-8641-4FC4-8D1A-5B1A6896F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73CF1C4-12FA-4C7C-A1D3-5AEC0AF07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AF54FD5-DE87-49EB-99C5-BC6F879FD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2869BCA-F952-4B2F-A260-010E26A9A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558DA21-3E4D-4096-8D9C-3EB660954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300CCD6-8729-4717-BB23-0CD815605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82583EC-C322-4367-899D-F00F3AAE2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3D7D41A-65D8-486F-B1E5-5A2CE59EA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580820E-259C-4060-84BE-851A16E8B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B7A3CDD-1B04-47D6-A192-DD17EB7F8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6BE69C-D7FA-4D25-BFE7-7F2EE482B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1B15F33-C6F9-43BC-A70F-BEDDE025C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58D7261-4805-4A01-B189-6ABC4331D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6002894-78E9-4FB3-96E5-6B2FFDD84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E50BFCC-B323-4785-9113-8B0E95B4A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DF58CAA-EA73-4263-A4F2-2BA354169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F6DFB91-A534-474D-8D88-DD4A85ACC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B0605EE-E742-498A-82E9-89C546364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A31F468-90C2-45DC-AFBE-B8A4B0CE7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2E5FC96-CFD7-4E0A-BCCA-FAC0BE68F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A481CF2-A366-447D-9FE4-B0378033A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472383-2104-4D0D-896D-4CFFC391C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421E787-D6DC-4F70-A8EB-7BC838C17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4FAC44F-87D9-4354-8452-5B4E8F934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A93CD48-D74B-4E1B-903D-2D2C929D5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101BA19-9EFE-4A42-8AF0-67A1165CD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E9CE687-D75E-4DD0-84D9-B1BD645A6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D22C408-2CF9-4F8C-BFF1-6454442BF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3C7266C-CC0E-4C96-9E58-F3F22C31A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D805872-2814-4104-9963-7774712AD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6DB0377-47C5-4503-A747-CEB9B73B5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2A4979C-FACA-4AA5-B797-1F0D0614B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B1253E-383D-4B57-A190-A338DAB67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9DD63D7-50C4-4511-B708-2591EC966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C0BEC2C-9CA7-42ED-8F65-ED53B36E7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5C05BF0-06FC-4F11-905E-0661CD1DE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C6C2CCF-63D4-48E5-BB34-7525ED87A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5430665-45FD-4C30-A82C-EF3C17E9A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EC72622-0FFB-49C7-B854-665476AE8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6E3F4C1-5F93-40C2-B98A-DC7A830F2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DBE372B-5D16-4E8C-9E4D-D9E1823A6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01841B3-53A5-488A-A27E-27DB843AA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DEBB393C-B359-4DD8-B046-EB983073C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BA9757-7686-49AF-81D4-FC67DDD4F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5FBFBAE6-8F2F-40FE-ADF1-9D6C5A919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B6403A5E-E2FB-44DB-B3EE-ABC70DF28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CE294A80-D048-4DEE-9B2B-88E6AE970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0BE6E34F-3463-4EA8-8F31-32F3AC98D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596EF920-6E0F-4C8C-830B-566067018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CEC05E69-1AD4-4A4D-98EB-FFC41652E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796055FE-1C13-40CB-B90F-8C678C903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7A1E7BF1-B65D-44FD-A2CD-C868F2759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D499DC7E-9502-4511-819A-525557887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F4E62211-B798-4773-B994-337594755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89C1B7-D9E8-4B7F-9538-B10318918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0D0ADFA6-D3E5-43EF-BE13-AAF4CB1F1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60A6024F-940A-4863-B6AC-E8BDB297D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F8FB886D-0BA5-4A2F-8DFB-3B3EAAA2F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295197C6-4D07-4A85-A025-0753B3D93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4B113B03-E190-4C11-89AA-070540F1D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E302198F-0536-4EFB-B506-6F46F7640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28449DBE-679D-4873-A6CD-0A73A8D30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14C3BEA6-BFF9-4E52-9C54-B13326049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ED599806-BB59-4D65-B098-A87631D04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FC07403F-4E06-4953-98C2-D173C3A3A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E18262-31E0-4A98-9DAC-7E914D48A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AEF516D9-FABD-4782-A7B3-E0D9C1861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35819F8D-684B-49A5-8B56-6A7F3193B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AD1B879C-FFB2-40A7-AA32-4A828286B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E56F30E9-019A-4781-B16E-CD47E0AE8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351313B6-AC87-4CAF-9986-E029B8442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CDE17AA0-B067-401C-B74A-A48F6B706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6FCF0BE4-58AE-4431-A988-91ED44089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31BCF459-D78D-4E04-9E89-67C93679D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86CF4677-666D-4D68-B5AB-B0F6F1483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1E8F92A7-5D35-43AC-BD9B-E7445733B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5C36AA-28BD-46E1-B347-D96733F41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523479CD-7723-41DA-9A6E-3831C1D15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78F2F04F-04C0-4238-A670-11900F8B5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28903E7F-A21F-4C3F-B288-7680516C7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89413CF1-2B2E-4D64-BCB0-9205A35F2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1EEBA5FF-631F-45A7-B861-9DC23379B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28BD3E49-1DE6-4F80-9228-AEDB8E87B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6452F0A0-3AB3-4814-B536-C29673F27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24252854-548F-460A-BEB5-0EC14A1DB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A229EDFE-9B57-4B1B-B940-3F3835800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50FAF774-8912-4C86-9ECC-3CABD5344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7FC13A-3E13-4D42-8D08-4127BCA9C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B28AF9F9-BA5D-4609-BB11-695440D17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E0A91709-0BCE-4491-936E-DE25B4E54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4F49AE35-C759-4E6B-A0EB-7271E2914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C70330A5-5E64-4E7A-9859-AA683CD35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5844AB7D-54CF-4CB9-97F0-64A36CC1E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CE6E5E7A-6E4C-48E8-AA67-04845AFD3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A8458B15-9971-4056-8B63-79D6BD91E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57B79E74-6D8D-4BBA-BF84-3084424C7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E0287B96-D1E8-4EBB-AC74-40BC11415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00A5D74A-D2E3-4FD7-AB8D-27B1886E7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D0F188-F56A-4559-9CA2-FA3FF77A5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E45D675F-9F0A-4BC8-A245-98A127A12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8DC8E31F-51BC-4399-944C-E7D6EF65C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738E05BD-6D2F-4B30-83B6-5FB2F29BD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9772824A-C6AC-43AA-93C3-95B779143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92F2F348-E4CE-4E5F-B0E8-7048BC8E4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2B608F98-351F-4329-A2E0-5DCC9E97F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C8436411-9738-4C74-AEB4-35EB888DD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1FFFEB11-025C-4C01-8213-F98EBEF28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9D3C0B31-03ED-4FC4-BFBD-7FB1E8FAD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6C0F84-84D3-4791-9B1F-E99D79AA4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BEF0B4-26A6-40A2-B525-9433EEF7B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5FB6170-A84F-438B-94CD-8E5F5842F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CE190C3-1E97-400B-95A1-2973235EC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C16B139-78BA-40DC-B9A6-119C8E596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76CAAE1-C124-4ECA-88D9-DC5E6B808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EF5160C-2B1D-481A-BC3A-5C266C7FE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62ADCEA-CE0E-49EF-8B34-6DAE46934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09A4C3F-0AC8-4AF9-9050-91E72F1BF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7A17B75-69EB-48A9-9ACE-2E59F3EFA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8955149-A78F-4E74-9C93-2214B667A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C6D0FFE-D5D9-497F-9586-C4E24733C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8EF3335-9C67-44E2-AE10-F189F6CBB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E5D1A92-4F98-43B6-93D9-F06EDA537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758E1A2-B95B-4B20-A2DD-31CF01B76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0F86A0B-21F2-490F-BDBA-D6C1B6FCE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EB16C7C-EEAC-4E80-B544-5DD1CFE29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B6029D3-0E84-4A7F-8958-DB117861D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B477B1B-0311-4BD6-8526-155AA8E58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8B77CC6-A267-4EC4-93F2-126633F51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A5E65B9-5850-46A9-BFB1-79FE1D5CA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BE5F533-CA31-4A30-ADBF-1402242EB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B9C7CBC-F8A8-42D1-BA37-87A27FDB0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83A23FB-1140-4643-946D-99010640E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79151EB-13CD-49E4-AD16-C14E55E2A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19A1A6B-D056-4A57-B5E2-0D97C2664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4E9DE57-66DD-4E60-97B9-CB0591814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051006C-DCEE-4305-B417-B62DF3D6D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918FBB7-B7E7-4E30-9B65-66AA3E481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C65A274-7350-4E41-B8E0-3D43CD5E1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AE67F43-3EE0-45A1-95C1-70D5352A9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4131C8D-4B66-4D01-875D-F5D2306E6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280EAF9-498E-45ED-A640-B181AC5EA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BE27A06-B817-4930-B464-CDC17F581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4A97B27-669B-4E00-8A24-CB0D066FF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797880B-1360-4E23-8240-A69A60079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14AABEF-675E-4292-9B72-A33D24122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AC942BD-C7B7-43A5-901A-DE4DD102B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F5CBC2B-DC4D-474E-82E5-330A7C3F3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9DD2450-6056-482C-8E64-1D969024D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1347C3A-00BE-4D37-8B84-BB4C8C572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4D2B737-F355-4343-9398-1000DF2EB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DC99DAE-FCCB-48B6-9F61-CA2CCC24B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7A62BF3-F9AD-45CE-A9B3-2F14FF371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8BA9D93-F76E-4D54-8DF1-DADF4AE77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528E1C5-172E-432A-A777-9CD5DDF51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3973A01-314F-4CB2-BF06-16F5DEE46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748FC39-1948-4F22-B9BC-9118F3647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B10770D-10AF-450B-A390-20EBAF797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712371C-C508-49FE-A508-86CE2E9B3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1ACCA5A-067C-4ADC-9F48-E64F7CCFC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D722338-51B8-4B10-A0F0-1F984B733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3FAC7F5-B9F7-4B09-9C50-2354DEC1A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84954A1-0EF6-4D56-AF56-0ADCBE5B5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CEF70E2-EEB0-45A8-A2F5-AD59655C2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709EFF6-E50B-47C5-B04C-5C8B2E7E6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CE7C926-A5BD-455A-A130-48916CDB4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D9B64B5-A421-4D5F-8633-F2DBC8957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7CF2D7B-E5E4-4D7F-AA96-BCEB1BBEF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5D658D4-45E6-40AC-B109-67EFA4686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769C244-500B-4481-BE88-5E34423D0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F163DBC-1B66-4AD9-845C-A331173FA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18C151D-D9FD-45AB-93B0-0593692F4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FA68A70-E4E8-44FF-9F0F-EBE5829B5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EBF4203-5CC6-4ADE-81F8-885989351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L:\Visionary Analytics\Logo\Brand\Baltas logo 300 dpi spaudai-01.jpg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7236000" y="6021360"/>
            <a:ext cx="1692000" cy="846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54a6f"/>
                </a:solidFill>
                <a:latin typeface="Century Gothic Bold"/>
              </a:rPr>
              <a:t>Click to edit the title text format</a:t>
            </a: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Click to edit the outline text format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1" marL="743040" indent="-28584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con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2" marL="1143000" indent="-22860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Thir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3" marL="1600200" indent="-22860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our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4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if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5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ix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6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ven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46800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95a4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95a4"/>
                </a:solidFill>
                <a:latin typeface="Century Gothic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Picture 2" descr="L:\Visionary Analytics\Logo\Brand\Baltas logo 300 dpi spaudai-01.jpg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7236000" y="6021360"/>
            <a:ext cx="1692000" cy="846000"/>
          </a:xfrm>
          <a:prstGeom prst="rect">
            <a:avLst/>
          </a:prstGeom>
          <a:ln w="0">
            <a:noFill/>
          </a:ln>
        </p:spPr>
      </p:pic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54a6f"/>
                </a:solidFill>
                <a:latin typeface="Century Gothic Bold"/>
              </a:rPr>
              <a:t>Click to edit the title text format</a:t>
            </a: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Click to edit the outline text format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1" marL="743040" indent="-28584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con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2" marL="1143000" indent="-22860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Thir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3" marL="1600200" indent="-22860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our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4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if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5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ix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6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ven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dt" idx="2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ftr" idx="25"/>
          </p:nvPr>
        </p:nvSpPr>
        <p:spPr>
          <a:xfrm>
            <a:off x="46800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95a4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95a4"/>
                </a:solidFill>
                <a:latin typeface="Century Gothic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sldNum" idx="2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791D5-71E1-4A89-921A-775E23980F67}" type="slidenum"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Picture 2" descr="L:\Visionary Analytics\Logo\Brand\Baltas logo 300 dpi spaudai-01.jpg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7236000" y="6021360"/>
            <a:ext cx="1692000" cy="846000"/>
          </a:xfrm>
          <a:prstGeom prst="rect">
            <a:avLst/>
          </a:prstGeom>
          <a:ln w="0">
            <a:noFill/>
          </a:ln>
        </p:spPr>
      </p:pic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54a6f"/>
                </a:solidFill>
                <a:latin typeface="Century Gothic Bold"/>
              </a:rPr>
              <a:t>Click to edit the title text format</a:t>
            </a: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Click to edit the outline text format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1" marL="743040" indent="-28584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con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2" marL="1143000" indent="-22860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Thir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3" marL="1600200" indent="-22860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our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4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if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5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ix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6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ven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 type="dt" idx="2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 type="ftr" idx="28"/>
          </p:nvPr>
        </p:nvSpPr>
        <p:spPr>
          <a:xfrm>
            <a:off x="46800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95a4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95a4"/>
                </a:solidFill>
                <a:latin typeface="Century Gothic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 type="sldNum" idx="2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C4BCC-8490-4FAB-A728-12000362F126}" type="slidenum"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3" name="Picture 2" descr="L:\Visionary Analytics\Logo\Brand\Baltas logo 300 dpi spaudai-01.jpg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7236000" y="6021360"/>
            <a:ext cx="1692000" cy="846000"/>
          </a:xfrm>
          <a:prstGeom prst="rect">
            <a:avLst/>
          </a:prstGeom>
          <a:ln w="0">
            <a:noFill/>
          </a:ln>
        </p:spPr>
      </p:pic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54a6f"/>
                </a:solidFill>
                <a:latin typeface="Century Gothic Bold"/>
              </a:rPr>
              <a:t>Click to edit the title text format</a:t>
            </a: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Click to edit the outline text format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1" marL="743040" indent="-28584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con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2" marL="1143000" indent="-22860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Thir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3" marL="1600200" indent="-22860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our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4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if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5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ix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6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ven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3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1"/>
          </p:nvPr>
        </p:nvSpPr>
        <p:spPr>
          <a:xfrm>
            <a:off x="46800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95a4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95a4"/>
                </a:solidFill>
                <a:latin typeface="Century Gothic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B9D95-0E41-411B-8E8F-0670ECDF7A07}" type="slidenum"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Picture 2" descr="L:\Visionary Analytics\Logo\Brand\Baltas logo 300 dpi spaudai-01.jpg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7236000" y="6021360"/>
            <a:ext cx="1692000" cy="846000"/>
          </a:xfrm>
          <a:prstGeom prst="rect">
            <a:avLst/>
          </a:prstGeom>
          <a:ln w="0">
            <a:noFill/>
          </a:ln>
        </p:spPr>
      </p:pic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54a6f"/>
                </a:solidFill>
                <a:latin typeface="Century Gothic Bold"/>
              </a:rPr>
              <a:t>Click to edit the title text format</a:t>
            </a: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Click to edit the outline text format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1" marL="743040" indent="-28584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con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2" marL="1143000" indent="-22860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Thir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3" marL="1600200" indent="-22860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our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4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if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5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ix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6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ven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 type="dt" idx="3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 type="ftr" idx="34"/>
          </p:nvPr>
        </p:nvSpPr>
        <p:spPr>
          <a:xfrm>
            <a:off x="46800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95a4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95a4"/>
                </a:solidFill>
                <a:latin typeface="Century Gothic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 type="sldNum" idx="3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73A45-C2A5-4C57-8C9D-F9D346762A30}" type="slidenum"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7" name="Picture 2" descr="L:\Visionary Analytics\Logo\Brand\Baltas logo 300 dpi spaudai-01.jpg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7236000" y="6021360"/>
            <a:ext cx="1692000" cy="846000"/>
          </a:xfrm>
          <a:prstGeom prst="rect">
            <a:avLst/>
          </a:prstGeom>
          <a:ln w="0">
            <a:noFill/>
          </a:ln>
        </p:spPr>
      </p:pic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54a6f"/>
                </a:solidFill>
                <a:latin typeface="Century Gothic Bold"/>
              </a:rPr>
              <a:t>Click to edit the title text format</a:t>
            </a: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Click to edit the outline text format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1" marL="743040" indent="-28584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con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2" marL="1143000" indent="-22860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Thir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3" marL="1600200" indent="-22860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our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4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if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5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ix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6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ven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 type="dt" idx="3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 type="ftr" idx="37"/>
          </p:nvPr>
        </p:nvSpPr>
        <p:spPr>
          <a:xfrm>
            <a:off x="46800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95a4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95a4"/>
                </a:solidFill>
                <a:latin typeface="Century Gothic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 type="sldNum" idx="3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2E24B-8437-415C-9A37-89F83F6619D8}" type="slidenum"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9" name="Picture 2" descr="L:\Visionary Analytics\Logo\Brand\Baltas logo 300 dpi spaudai-01.jpg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7236000" y="6021360"/>
            <a:ext cx="1692000" cy="846000"/>
          </a:xfrm>
          <a:prstGeom prst="rect">
            <a:avLst/>
          </a:prstGeom>
          <a:ln w="0">
            <a:noFill/>
          </a:ln>
        </p:spPr>
      </p:pic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54a6f"/>
                </a:solidFill>
                <a:latin typeface="Century Gothic Bold"/>
              </a:rPr>
              <a:t>Click to edit the title text format</a:t>
            </a: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Click to edit the outline text format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1" marL="743040" indent="-28584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con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2" marL="1143000" indent="-22860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Thir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3" marL="1600200" indent="-22860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our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4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if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5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ix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6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ven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 type="dt" idx="3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 type="ftr" idx="40"/>
          </p:nvPr>
        </p:nvSpPr>
        <p:spPr>
          <a:xfrm>
            <a:off x="46800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95a4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95a4"/>
                </a:solidFill>
                <a:latin typeface="Century Gothic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 type="sldNum" idx="4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C55F3-446C-4E1B-B776-E16EDE9A8E0C}" type="slidenum"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1" name="Picture 2" descr="L:\Visionary Analytics\Logo\Brand\Baltas logo 300 dpi spaudai-01.jpg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7236000" y="6021360"/>
            <a:ext cx="1692000" cy="846000"/>
          </a:xfrm>
          <a:prstGeom prst="rect">
            <a:avLst/>
          </a:prstGeom>
          <a:ln w="0">
            <a:noFill/>
          </a:ln>
        </p:spPr>
      </p:pic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54a6f"/>
                </a:solidFill>
                <a:latin typeface="Century Gothic Bold"/>
              </a:rPr>
              <a:t>Click to edit the title text format</a:t>
            </a: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Click to edit the outline text format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1" marL="743040" indent="-28584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con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2" marL="1143000" indent="-22860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Thir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3" marL="1600200" indent="-22860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our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4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if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5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ix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6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ven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 type="dt" idx="4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 type="ftr" idx="43"/>
          </p:nvPr>
        </p:nvSpPr>
        <p:spPr>
          <a:xfrm>
            <a:off x="46800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95a4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95a4"/>
                </a:solidFill>
                <a:latin typeface="Century Gothic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PlaceHolder 5"/>
          <p:cNvSpPr>
            <a:spLocks noGrp="1"/>
          </p:cNvSpPr>
          <p:nvPr>
            <p:ph type="sldNum" idx="4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6DCAD-A6A8-4031-8202-A157DDF5A73A}" type="slidenum"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3" name="Picture 2" descr="L:\Visionary Analytics\Logo\Brand\Baltas logo 300 dpi spaudai-01.jpg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7236000" y="6021360"/>
            <a:ext cx="1692000" cy="846000"/>
          </a:xfrm>
          <a:prstGeom prst="rect">
            <a:avLst/>
          </a:prstGeom>
          <a:ln w="0">
            <a:noFill/>
          </a:ln>
        </p:spPr>
      </p:pic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54a6f"/>
                </a:solidFill>
                <a:latin typeface="Century Gothic Bold"/>
              </a:rPr>
              <a:t>Click to edit the title text format</a:t>
            </a: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Click to edit the outline text format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1" marL="743040" indent="-28584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con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2" marL="1143000" indent="-22860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Thir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3" marL="1600200" indent="-22860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our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4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if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5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ix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6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ven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 type="dt" idx="4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 type="ftr" idx="46"/>
          </p:nvPr>
        </p:nvSpPr>
        <p:spPr>
          <a:xfrm>
            <a:off x="46800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95a4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95a4"/>
                </a:solidFill>
                <a:latin typeface="Century Gothic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 type="sldNum" idx="4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BF49B-A944-464D-B0F4-504A734DDA39}" type="slidenum"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5" name="Picture 2" descr="L:\Visionary Analytics\Logo\Brand\Baltas logo 300 dpi spaudai-01.jpg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7236000" y="6021360"/>
            <a:ext cx="1692000" cy="846000"/>
          </a:xfrm>
          <a:prstGeom prst="rect">
            <a:avLst/>
          </a:prstGeom>
          <a:ln w="0">
            <a:noFill/>
          </a:ln>
        </p:spPr>
      </p:pic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54a6f"/>
                </a:solidFill>
                <a:latin typeface="Century Gothic Bold"/>
              </a:rPr>
              <a:t>Click to edit the title text format</a:t>
            </a: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Click to edit the outline text format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1" marL="743040" indent="-28584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con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2" marL="1143000" indent="-22860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Thir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3" marL="1600200" indent="-22860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our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4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if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5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ix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6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ven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 type="dt" idx="4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 type="ftr" idx="49"/>
          </p:nvPr>
        </p:nvSpPr>
        <p:spPr>
          <a:xfrm>
            <a:off x="46800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95a4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95a4"/>
                </a:solidFill>
                <a:latin typeface="Century Gothic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PlaceHolder 5"/>
          <p:cNvSpPr>
            <a:spLocks noGrp="1"/>
          </p:cNvSpPr>
          <p:nvPr>
            <p:ph type="sldNum" idx="5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E31DE-3BAB-4B6F-9CAC-417A2A903D0E}" type="slidenum"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7" name="Picture 2" descr="L:\Visionary Analytics\Logo\Brand\Baltas logo 300 dpi spaudai-01.jpg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7236000" y="6021360"/>
            <a:ext cx="1692000" cy="846000"/>
          </a:xfrm>
          <a:prstGeom prst="rect">
            <a:avLst/>
          </a:prstGeom>
          <a:ln w="0">
            <a:noFill/>
          </a:ln>
        </p:spPr>
      </p:pic>
      <p:pic>
        <p:nvPicPr>
          <p:cNvPr id="748" name="Obrázek 5" descr=""/>
          <p:cNvPicPr/>
          <p:nvPr/>
        </p:nvPicPr>
        <p:blipFill>
          <a:blip r:embed="rId3"/>
          <a:stretch/>
        </p:blipFill>
        <p:spPr>
          <a:xfrm>
            <a:off x="-127080" y="0"/>
            <a:ext cx="9361440" cy="6858000"/>
          </a:xfrm>
          <a:prstGeom prst="rect">
            <a:avLst/>
          </a:prstGeom>
          <a:ln w="0">
            <a:noFill/>
          </a:ln>
        </p:spPr>
      </p:pic>
      <p:sp>
        <p:nvSpPr>
          <p:cNvPr id="749" name="TextovéPole 6"/>
          <p:cNvSpPr/>
          <p:nvPr/>
        </p:nvSpPr>
        <p:spPr>
          <a:xfrm>
            <a:off x="674640" y="879480"/>
            <a:ext cx="33498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54a6f"/>
                </a:solidFill>
                <a:latin typeface="Arial"/>
              </a:rPr>
              <a:t>MINISTRY OF REGIONAL DEVELOPMENT</a:t>
            </a:r>
            <a:br>
              <a:rPr sz="1000"/>
            </a:br>
            <a:r>
              <a:rPr b="1" lang="en-GB" sz="1500" spc="-1" strike="noStrike">
                <a:solidFill>
                  <a:srgbClr val="054a6f"/>
                </a:solidFill>
                <a:latin typeface="Arial"/>
              </a:rPr>
              <a:t>National Coordination Authority</a:t>
            </a:r>
            <a:endParaRPr b="0" lang="en-US" sz="15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54a6f"/>
                </a:solidFill>
                <a:latin typeface="Century Gothic Bold"/>
              </a:rPr>
              <a:t>Click to edit the title text format</a:t>
            </a: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Click to edit the outline text format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1" marL="743040" indent="-28584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con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2" marL="1143000" indent="-22860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Thir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3" marL="1600200" indent="-22860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our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4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if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5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ix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6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ven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 type="dt" idx="51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054a6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54a6f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 type="sldNum" idx="52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054a6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AD2BB-064F-4B7B-9FD4-F7B8820B0B8D}" type="slidenum">
              <a:rPr b="0" lang="cs-CZ" sz="2400" spc="-1" strike="noStrike">
                <a:solidFill>
                  <a:srgbClr val="054a6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 type="ftr" idx="53"/>
          </p:nvPr>
        </p:nvSpPr>
        <p:spPr>
          <a:xfrm>
            <a:off x="46800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8989"/>
                </a:solidFill>
                <a:latin typeface="Times New Roman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3A456-6074-47EB-B017-EF56D4D9542A}" type="slidenum">
              <a:rPr b="0" lang="lt-LT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8989"/>
                </a:solidFill>
                <a:latin typeface="Times New Roman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37752-4086-45FD-B654-DEE2BA981765}" type="slidenum">
              <a:rPr b="0" lang="lt-LT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8989"/>
                </a:solidFill>
                <a:latin typeface="Times New Roman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1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85420-AF44-4AEA-A844-31A8E5D8646F}" type="slidenum">
              <a:rPr b="0" lang="lt-LT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8989"/>
                </a:solidFill>
                <a:latin typeface="Times New Roman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C2459-8524-4880-BACD-DA41BD5E3EC8}" type="slidenum">
              <a:rPr b="0" lang="lt-LT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54a6f"/>
                </a:solidFill>
                <a:latin typeface="Century Gothic Bold"/>
              </a:rPr>
              <a:t>Click to edit the title text format</a:t>
            </a: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Click to edit the outline text format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1" marL="743040" indent="-28584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con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2" marL="1143000" indent="-22860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Thir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3" marL="1600200" indent="-22860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our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4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if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5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ix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6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ven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ftr" idx="14"/>
          </p:nvPr>
        </p:nvSpPr>
        <p:spPr>
          <a:xfrm>
            <a:off x="46800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95a4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95a4"/>
                </a:solidFill>
                <a:latin typeface="Century Gothic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2" descr="L:\Visionary Analytics\Logo\Brand\Baltas logo 300 dpi spaudai-01.jpg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7236000" y="6021360"/>
            <a:ext cx="1692000" cy="846000"/>
          </a:xfrm>
          <a:prstGeom prst="rect">
            <a:avLst/>
          </a:prstGeom>
          <a:ln w="0">
            <a:noFill/>
          </a:ln>
        </p:spPr>
      </p:pic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54a6f"/>
                </a:solidFill>
                <a:latin typeface="Century Gothic Bold"/>
              </a:rPr>
              <a:t>Click to edit the title text format</a:t>
            </a: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Click to edit the outline text format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1" marL="743040" indent="-28584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con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2" marL="1143000" indent="-22860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Thir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3" marL="1600200" indent="-22860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our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4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if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5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ix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6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ven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 type="dt" idx="1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 type="ftr" idx="16"/>
          </p:nvPr>
        </p:nvSpPr>
        <p:spPr>
          <a:xfrm>
            <a:off x="46800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95a4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95a4"/>
                </a:solidFill>
                <a:latin typeface="Century Gothic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 type="sldNum" idx="1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B6F66-8EA7-4393-9D68-9121F004F283}" type="slidenum"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Picture 2" descr="L:\Visionary Analytics\Logo\Brand\Baltas logo 300 dpi spaudai-01.jpg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7236000" y="6021360"/>
            <a:ext cx="1692000" cy="846000"/>
          </a:xfrm>
          <a:prstGeom prst="rect">
            <a:avLst/>
          </a:prstGeom>
          <a:ln w="0">
            <a:noFill/>
          </a:ln>
        </p:spPr>
      </p:pic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54a6f"/>
                </a:solidFill>
                <a:latin typeface="Century Gothic Bold"/>
              </a:rPr>
              <a:t>Click to edit the title text format</a:t>
            </a: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Click to edit the outline text format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1" marL="743040" indent="-28584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con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2" marL="1143000" indent="-22860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Thir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3" marL="1600200" indent="-22860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our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4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if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5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ix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6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ven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 type="dt" idx="1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 type="ftr" idx="19"/>
          </p:nvPr>
        </p:nvSpPr>
        <p:spPr>
          <a:xfrm>
            <a:off x="46800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95a4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95a4"/>
                </a:solidFill>
                <a:latin typeface="Century Gothic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 type="sldNum" idx="2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F30EC-EA41-4A8C-9036-CFC5367D9FF3}" type="slidenum"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Picture 2" descr="L:\Visionary Analytics\Logo\Brand\Baltas logo 300 dpi spaudai-01.jpg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7236000" y="6021360"/>
            <a:ext cx="1692000" cy="846000"/>
          </a:xfrm>
          <a:prstGeom prst="rect">
            <a:avLst/>
          </a:prstGeom>
          <a:ln w="0">
            <a:noFill/>
          </a:ln>
        </p:spPr>
      </p:pic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54a6f"/>
                </a:solidFill>
                <a:latin typeface="Century Gothic Bold"/>
              </a:rPr>
              <a:t>Click to edit the title text format</a:t>
            </a: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Click to edit the outline text format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1" marL="743040" indent="-28584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con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2" marL="1143000" indent="-22860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Thir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3" marL="1600200" indent="-22860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our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4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if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5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ix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6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ven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2"/>
          </p:nvPr>
        </p:nvSpPr>
        <p:spPr>
          <a:xfrm>
            <a:off x="46800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95a4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95a4"/>
                </a:solidFill>
                <a:latin typeface="Century Gothic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09A5B-B713-448E-AA58-5D0C8C09DB45}" type="slidenum"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1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6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subTitle"/>
          </p:nvPr>
        </p:nvSpPr>
        <p:spPr>
          <a:xfrm>
            <a:off x="674640" y="4624200"/>
            <a:ext cx="6400800" cy="492120"/>
          </a:xfrm>
          <a:prstGeom prst="rect">
            <a:avLst/>
          </a:prstGeom>
          <a:noFill/>
          <a:ln w="0">
            <a:noFill/>
          </a:ln>
        </p:spPr>
        <p:txBody>
          <a:bodyPr lIns="90000" anchor="t">
            <a:no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54a6f"/>
                </a:solidFill>
                <a:latin typeface="Century Gothic"/>
              </a:rPr>
              <a:t>Raimonda Mackevi</a:t>
            </a:r>
            <a:r>
              <a:rPr b="1" lang="lt-LT" sz="1500" spc="-1" strike="noStrike">
                <a:solidFill>
                  <a:srgbClr val="054a6f"/>
                </a:solidFill>
                <a:latin typeface="Century Gothic"/>
              </a:rPr>
              <a:t>čiūtė, Visionary Analytics</a:t>
            </a:r>
            <a:endParaRPr b="0" lang="en-US" sz="15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 type="title"/>
          </p:nvPr>
        </p:nvSpPr>
        <p:spPr>
          <a:xfrm>
            <a:off x="17928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700" spc="-1" strike="noStrike">
                <a:solidFill>
                  <a:srgbClr val="0070c0"/>
                </a:solidFill>
                <a:latin typeface="Century Gothic"/>
              </a:rPr>
              <a:t>Thinking outside the box:</a:t>
            </a:r>
            <a:br>
              <a:rPr sz="2700"/>
            </a:br>
            <a:r>
              <a:rPr b="1" lang="en-US" sz="2700" spc="-1" strike="noStrike">
                <a:solidFill>
                  <a:srgbClr val="f2af00"/>
                </a:solidFill>
                <a:latin typeface="Century Gothic"/>
              </a:rPr>
              <a:t>Methodological Innovations in Evaluation of Training Courses Funded by the ESF in Lithuania</a:t>
            </a:r>
            <a:endParaRPr b="0" lang="en-US" sz="27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674280" y="5327280"/>
            <a:ext cx="3457800" cy="352440"/>
          </a:xfrm>
          <a:prstGeom prst="rect">
            <a:avLst/>
          </a:prstGeom>
          <a:noFill/>
          <a:ln w="0">
            <a:noFill/>
          </a:ln>
        </p:spPr>
        <p:txBody>
          <a:bodyPr lIns="90000" rIns="144000" anchor="t">
            <a:normAutofit/>
          </a:bodyPr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34ea2"/>
                </a:solidFill>
                <a:latin typeface="Century Gothic Bold"/>
              </a:rPr>
              <a:t>3.10.2018, MMR, Prague</a:t>
            </a:r>
            <a:endParaRPr b="0" lang="en-US" sz="1500" spc="-1" strike="noStrike">
              <a:solidFill>
                <a:srgbClr val="054a6f"/>
              </a:solidFill>
              <a:latin typeface="Century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Rectangle 3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Century Gothic Bold"/>
              </a:rPr>
              <a:t>Usage of big labour market data</a:t>
            </a:r>
            <a:endParaRPr b="0" lang="en-US" sz="36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35" name=""/>
          <p:cNvSpPr txBox="1"/>
          <p:nvPr/>
        </p:nvSpPr>
        <p:spPr>
          <a:xfrm>
            <a:off x="900000" y="2276280"/>
            <a:ext cx="7739280" cy="356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54a6f"/>
                </a:solidFill>
                <a:latin typeface="Century Gothic"/>
              </a:rPr>
              <a:t>Inside the box: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54a6f"/>
                </a:solidFill>
                <a:latin typeface="Century Gothic"/>
              </a:rPr>
              <a:t>The only way to know the needs is to ask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54a6f"/>
                </a:solidFill>
                <a:latin typeface="Century Gothic"/>
              </a:rPr>
              <a:t>Big data is only for business and advertising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Rectangle 3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Century Gothic Bold"/>
              </a:rPr>
              <a:t>Usage of big labour market data</a:t>
            </a:r>
            <a:endParaRPr b="0" lang="en-US" sz="36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38" name=""/>
          <p:cNvSpPr txBox="1"/>
          <p:nvPr/>
        </p:nvSpPr>
        <p:spPr>
          <a:xfrm>
            <a:off x="971640" y="2205000"/>
            <a:ext cx="7416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54a6f"/>
                </a:solidFill>
                <a:latin typeface="Century Gothic"/>
              </a:rPr>
              <a:t>Outside the box: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54a6f"/>
                </a:solidFill>
                <a:latin typeface="Century Gothic"/>
              </a:rPr>
              <a:t>Job ads as the reflection of market needs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54a6f"/>
                </a:solidFill>
                <a:latin typeface="Century Gothic"/>
              </a:rPr>
              <a:t>Continuous </a:t>
            </a:r>
            <a:r>
              <a:rPr b="0" lang="en-US" sz="2800" spc="-1" strike="noStrike">
                <a:solidFill>
                  <a:srgbClr val="054a6f"/>
                </a:solidFill>
                <a:latin typeface="Century Gothic"/>
              </a:rPr>
              <a:t>process of </a:t>
            </a:r>
            <a:r>
              <a:rPr b="0" lang="lt-LT" sz="2800" spc="-1" strike="noStrike">
                <a:solidFill>
                  <a:srgbClr val="054a6f"/>
                </a:solidFill>
                <a:latin typeface="Century Gothic"/>
              </a:rPr>
              <a:t>data mining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Rectangle 3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Century Gothic Bold"/>
              </a:rPr>
              <a:t>Usage of big labour market data</a:t>
            </a:r>
            <a:endParaRPr b="0" lang="en-US" sz="36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41" name=""/>
          <p:cNvSpPr txBox="1"/>
          <p:nvPr/>
        </p:nvSpPr>
        <p:spPr>
          <a:xfrm>
            <a:off x="179280" y="1268280"/>
            <a:ext cx="896472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54a6f"/>
                </a:solidFill>
                <a:latin typeface="Century Gothic Bold"/>
              </a:rPr>
              <a:t>VACANCY ANALYTICS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54a6f"/>
                </a:solidFill>
                <a:latin typeface="Century Gothic"/>
              </a:rPr>
              <a:t>Data:</a:t>
            </a: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54a6f"/>
                </a:solidFill>
                <a:latin typeface="Century Gothic"/>
              </a:rPr>
              <a:t>Weekly scraping of 7 largest vacancies websites (from May 2016);</a:t>
            </a: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200" spc="-1" strike="noStrike">
                <a:solidFill>
                  <a:srgbClr val="054a6f"/>
                </a:solidFill>
                <a:latin typeface="Century Gothic"/>
              </a:rPr>
              <a:t>Approx. </a:t>
            </a:r>
            <a:r>
              <a:rPr b="0" lang="en-GB" sz="2200" spc="-1" strike="noStrike">
                <a:solidFill>
                  <a:srgbClr val="054a6f"/>
                </a:solidFill>
                <a:latin typeface="Century Gothic"/>
              </a:rPr>
              <a:t>5 k. unique adds each week;</a:t>
            </a: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54a6f"/>
                </a:solidFill>
                <a:latin typeface="Century Gothic"/>
              </a:rPr>
              <a:t>Classification by occupations (ISCO 4 digit), economic sector (NACE 4 digit), municipality and individual companies;</a:t>
            </a: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54a6f"/>
                </a:solidFill>
                <a:latin typeface="Century Gothic"/>
              </a:rPr>
              <a:t>Indicators:</a:t>
            </a: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54a6f"/>
                </a:solidFill>
                <a:latin typeface="Century Gothic"/>
              </a:rPr>
              <a:t>Aggregate and detailed demand;</a:t>
            </a: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54a6f"/>
                </a:solidFill>
                <a:latin typeface="Century Gothic"/>
              </a:rPr>
              <a:t>Hard to fill vacancies;</a:t>
            </a: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54a6f"/>
                </a:solidFill>
                <a:latin typeface="Century Gothic"/>
              </a:rPr>
              <a:t>Demand for specific competences and bottlenecks</a:t>
            </a: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spcBef>
                <a:spcPts val="55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spcBef>
                <a:spcPts val="55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2" name="Picture 5" descr=""/>
          <p:cNvPicPr/>
          <p:nvPr/>
        </p:nvPicPr>
        <p:blipFill>
          <a:blip r:embed="rId1"/>
          <a:stretch/>
        </p:blipFill>
        <p:spPr>
          <a:xfrm>
            <a:off x="2340000" y="1754280"/>
            <a:ext cx="4024440" cy="2466720"/>
          </a:xfrm>
          <a:prstGeom prst="rect">
            <a:avLst/>
          </a:prstGeom>
          <a:ln w="0">
            <a:noFill/>
          </a:ln>
        </p:spPr>
      </p:pic>
      <p:sp>
        <p:nvSpPr>
          <p:cNvPr id="843" name="Rectangle 3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Century Gothic Bold"/>
              </a:rPr>
              <a:t>Usage of big labour market data</a:t>
            </a:r>
            <a:endParaRPr b="0" lang="en-US" sz="36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45" name=""/>
          <p:cNvSpPr txBox="1"/>
          <p:nvPr/>
        </p:nvSpPr>
        <p:spPr>
          <a:xfrm>
            <a:off x="2573280" y="1267920"/>
            <a:ext cx="399744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54a6f"/>
                </a:solidFill>
                <a:latin typeface="Century Gothic Bold"/>
              </a:rPr>
              <a:t>VACANCY ANALYTICS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spcBef>
                <a:spcPts val="55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spcBef>
                <a:spcPts val="55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</p:txBody>
      </p:sp>
      <p:pic>
        <p:nvPicPr>
          <p:cNvPr id="846" name="Picture 2" descr=""/>
          <p:cNvPicPr/>
          <p:nvPr/>
        </p:nvPicPr>
        <p:blipFill>
          <a:blip r:embed="rId2"/>
          <a:stretch/>
        </p:blipFill>
        <p:spPr>
          <a:xfrm>
            <a:off x="684360" y="4221000"/>
            <a:ext cx="4002120" cy="2637000"/>
          </a:xfrm>
          <a:prstGeom prst="rect">
            <a:avLst/>
          </a:prstGeom>
          <a:ln w="0">
            <a:noFill/>
          </a:ln>
        </p:spPr>
      </p:pic>
      <p:pic>
        <p:nvPicPr>
          <p:cNvPr id="847" name="Picture 4" descr=""/>
          <p:cNvPicPr/>
          <p:nvPr/>
        </p:nvPicPr>
        <p:blipFill>
          <a:blip r:embed="rId3"/>
          <a:stretch/>
        </p:blipFill>
        <p:spPr>
          <a:xfrm>
            <a:off x="4686480" y="4195800"/>
            <a:ext cx="398916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54a6f"/>
                </a:solidFill>
                <a:latin typeface="Century Gothic Bold"/>
              </a:rPr>
              <a:t>Strengths: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50" name=""/>
          <p:cNvSpPr txBox="1"/>
          <p:nvPr/>
        </p:nvSpPr>
        <p:spPr>
          <a:xfrm>
            <a:off x="-360" y="2174760"/>
            <a:ext cx="44974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54a6f"/>
                </a:solidFill>
                <a:latin typeface="Century Gothic"/>
              </a:rPr>
              <a:t>More “objective“ data (compared to interviews)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54a6f"/>
                </a:solidFill>
                <a:latin typeface="Century Gothic"/>
              </a:rPr>
              <a:t>Continuous process of data collection: identification of trends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54a6f"/>
                </a:solidFill>
                <a:latin typeface="Century Gothic"/>
              </a:rPr>
              <a:t>Flexibility, depending on the question (e.g. Labour demand by the level of education in LT regions)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54a6f"/>
                </a:solidFill>
                <a:latin typeface="Century Gothic Bold"/>
              </a:rPr>
              <a:t>Limitations: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52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54a6f"/>
                </a:solidFill>
                <a:latin typeface="Century Gothic"/>
              </a:rPr>
              <a:t>Limitations determined by the chosen logic of the categorising (e.g. whether driving courses should be categorised as professional training)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54a6f"/>
                </a:solidFill>
                <a:latin typeface="Century Gothic"/>
              </a:rPr>
              <a:t>Only past and present trends (difficult to forecast the future)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53" name="Footer Placeholder 6"/>
          <p:cNvSpPr/>
          <p:nvPr/>
        </p:nvSpPr>
        <p:spPr>
          <a:xfrm>
            <a:off x="46836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95a4"/>
                </a:solidFill>
                <a:latin typeface="Century Gothic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54" name="Rectangle 7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55" name="Title 1"/>
          <p:cNvSpPr/>
          <p:nvPr/>
        </p:nvSpPr>
        <p:spPr>
          <a:xfrm>
            <a:off x="457200" y="189000"/>
            <a:ext cx="82296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Century Gothic Bold"/>
                <a:ea typeface="Arial"/>
              </a:rPr>
              <a:t>Usage of big labour market data</a:t>
            </a:r>
            <a:endParaRPr b="0" lang="en-US" sz="36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611280" y="278136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2af00"/>
                </a:solidFill>
                <a:latin typeface="Century Gothic Bold"/>
              </a:rPr>
              <a:t>Real-time monitoring</a:t>
            </a:r>
            <a:endParaRPr b="0" lang="en-US" sz="36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58" name=""/>
          <p:cNvSpPr txBox="1"/>
          <p:nvPr/>
        </p:nvSpPr>
        <p:spPr>
          <a:xfrm>
            <a:off x="457200" y="5013000"/>
            <a:ext cx="8686800" cy="111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Aim: to evaluate whether funded trainings match the needs of the labour market 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Rectangle 3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 Bold"/>
              </a:rPr>
              <a:t>Real-time monitoring</a:t>
            </a:r>
            <a:endParaRPr b="0" lang="en-US" sz="36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61" name=""/>
          <p:cNvSpPr txBox="1"/>
          <p:nvPr/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54a6f"/>
                </a:solidFill>
                <a:latin typeface="Century Gothic"/>
              </a:rPr>
              <a:t>Inside the box: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54a6f"/>
                </a:solidFill>
                <a:latin typeface="Century Gothic"/>
              </a:rPr>
              <a:t>Only qualified audit institutions can monitor trainings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54a6f"/>
                </a:solidFill>
                <a:latin typeface="Century Gothic"/>
              </a:rPr>
              <a:t>To evaluate the quality, we need to interview participants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54a6f"/>
                </a:solidFill>
                <a:latin typeface="Century Gothic"/>
              </a:rPr>
              <a:t>Nobody wants to have their courses monitored 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Rectangle 3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 Bold"/>
              </a:rPr>
              <a:t>Real-time monitoring</a:t>
            </a:r>
            <a:endParaRPr b="0" lang="en-US" sz="36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64" name=""/>
          <p:cNvSpPr txBox="1"/>
          <p:nvPr/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54a6f"/>
                </a:solidFill>
                <a:latin typeface="Century Gothic"/>
              </a:rPr>
              <a:t>Outside the box: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54a6f"/>
                </a:solidFill>
                <a:latin typeface="Century Gothic"/>
              </a:rPr>
              <a:t>Researchers monitor training courses themselves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54a6f"/>
                </a:solidFill>
                <a:latin typeface="Century Gothic"/>
              </a:rPr>
              <a:t>Tests before and after the trainings to evaluate whether the participants gained knowledge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54a6f"/>
                </a:solidFill>
                <a:latin typeface="Century Gothic Bold"/>
              </a:rPr>
              <a:t>Strengths: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67" name=""/>
          <p:cNvSpPr txBox="1"/>
          <p:nvPr/>
        </p:nvSpPr>
        <p:spPr>
          <a:xfrm>
            <a:off x="-360" y="2174760"/>
            <a:ext cx="44974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54a6f"/>
                </a:solidFill>
                <a:latin typeface="Century Gothic"/>
              </a:rPr>
              <a:t>Possibility to check information identified by organisers during the interviews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54a6f"/>
                </a:solidFill>
                <a:latin typeface="Century Gothic"/>
              </a:rPr>
              <a:t>Contact with participants and lecturers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54a6f"/>
                </a:solidFill>
                <a:latin typeface="Century Gothic Bold"/>
              </a:rPr>
              <a:t>Limitations: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69" name=""/>
          <p:cNvSpPr txBox="1"/>
          <p:nvPr/>
        </p:nvSpPr>
        <p:spPr>
          <a:xfrm>
            <a:off x="4644720" y="2174760"/>
            <a:ext cx="44989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54a6f"/>
                </a:solidFill>
                <a:latin typeface="Century Gothic"/>
              </a:rPr>
              <a:t>The lack of educational competencies to evaluate details and learning process 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54a6f"/>
                </a:solidFill>
                <a:latin typeface="Century Gothic"/>
              </a:rPr>
              <a:t>Only one-day trainings 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54a6f"/>
                </a:solidFill>
                <a:latin typeface="Century Gothic"/>
              </a:rPr>
              <a:t>Low-scale example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70" name="Footer Placeholder 6"/>
          <p:cNvSpPr/>
          <p:nvPr/>
        </p:nvSpPr>
        <p:spPr>
          <a:xfrm>
            <a:off x="46836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95a4"/>
                </a:solidFill>
                <a:latin typeface="Century Gothic"/>
              </a:rPr>
              <a:t>© Visionary Analytics, 201</a:t>
            </a:r>
            <a:r>
              <a:rPr b="0" lang="en-US" sz="1200" spc="-1" strike="noStrike">
                <a:solidFill>
                  <a:srgbClr val="8995a4"/>
                </a:solidFill>
                <a:latin typeface="Century Gothic"/>
              </a:rPr>
              <a:t>8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71" name="Rectangle 7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72" name="Title 1"/>
          <p:cNvSpPr/>
          <p:nvPr/>
        </p:nvSpPr>
        <p:spPr>
          <a:xfrm>
            <a:off x="457200" y="189000"/>
            <a:ext cx="82296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 Bold"/>
                <a:ea typeface="Arial"/>
              </a:rPr>
              <a:t>Real-time monitoring</a:t>
            </a:r>
            <a:endParaRPr b="0" lang="en-US" sz="36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611280" y="278136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2af00"/>
                </a:solidFill>
                <a:latin typeface="Century Gothic Bold"/>
              </a:rPr>
              <a:t>Cost-effectiveness analysis </a:t>
            </a:r>
            <a:endParaRPr b="0" lang="en-US" sz="36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75" name=""/>
          <p:cNvSpPr txBox="1"/>
          <p:nvPr/>
        </p:nvSpPr>
        <p:spPr>
          <a:xfrm>
            <a:off x="457200" y="5013000"/>
            <a:ext cx="8686800" cy="111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Aim: to evaluate the effectiveness of trainings 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54a6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Rectangle 12"/>
          <p:cNvSpPr/>
          <p:nvPr/>
        </p:nvSpPr>
        <p:spPr>
          <a:xfrm>
            <a:off x="3348000" y="1330200"/>
            <a:ext cx="51116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Thinking outside the box: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</a:t>
            </a:r>
            <a:r>
              <a:rPr b="1" lang="en-US" sz="3200" spc="-1" strike="noStrike">
                <a:solidFill>
                  <a:srgbClr val="f2af00"/>
                </a:solidFill>
                <a:latin typeface="Century Gothic"/>
                <a:ea typeface="Arial"/>
              </a:rPr>
              <a:t>Methodological Innovations in Evaluation of Training Courses Funded by the ESF in Lithuania</a:t>
            </a:r>
            <a:endParaRPr b="0" lang="en-US" sz="32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02" name="Rectangle 13"/>
          <p:cNvSpPr/>
          <p:nvPr/>
        </p:nvSpPr>
        <p:spPr>
          <a:xfrm>
            <a:off x="3348000" y="5956200"/>
            <a:ext cx="56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entury Gothic"/>
                <a:ea typeface="Arial"/>
              </a:rPr>
              <a:t>Raimonda Mackevi</a:t>
            </a:r>
            <a:r>
              <a:rPr b="1" lang="lt-LT" sz="1800" spc="-1" strike="noStrike">
                <a:solidFill>
                  <a:srgbClr val="ffffff"/>
                </a:solidFill>
                <a:latin typeface="Century Gothic"/>
                <a:ea typeface="Arial"/>
              </a:rPr>
              <a:t>čiūtė, Visionary Analytics</a:t>
            </a: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800" spc="-1" strike="noStrike">
                <a:solidFill>
                  <a:srgbClr val="ffffff"/>
                </a:solidFill>
                <a:latin typeface="Century Gothic"/>
                <a:ea typeface="Arial"/>
              </a:rPr>
              <a:t>October 4, 2018</a:t>
            </a: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03" name="Rectangle 4"/>
          <p:cNvSpPr/>
          <p:nvPr/>
        </p:nvSpPr>
        <p:spPr>
          <a:xfrm>
            <a:off x="0" y="0"/>
            <a:ext cx="277164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pic>
        <p:nvPicPr>
          <p:cNvPr id="804" name="Picture 3" descr="L:\Visionary Analytics\Logo\Brand\Baltas logo 300 dpi spaudai-01.jpg"/>
          <p:cNvPicPr/>
          <p:nvPr/>
        </p:nvPicPr>
        <p:blipFill>
          <a:blip r:embed="rId1">
            <a:lum contrast="10000"/>
          </a:blip>
          <a:stretch/>
        </p:blipFill>
        <p:spPr>
          <a:xfrm>
            <a:off x="0" y="0"/>
            <a:ext cx="2771640" cy="1386000"/>
          </a:xfrm>
          <a:prstGeom prst="rect">
            <a:avLst/>
          </a:prstGeom>
          <a:ln w="0">
            <a:noFill/>
          </a:ln>
        </p:spPr>
      </p:pic>
      <p:sp>
        <p:nvSpPr>
          <p:cNvPr id="805" name="Rectangle 7"/>
          <p:cNvSpPr/>
          <p:nvPr/>
        </p:nvSpPr>
        <p:spPr>
          <a:xfrm>
            <a:off x="250920" y="6308640"/>
            <a:ext cx="23050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300" spc="-1" strike="noStrike">
                <a:solidFill>
                  <a:srgbClr val="7f7f7f"/>
                </a:solidFill>
                <a:latin typeface="Century Gothic"/>
              </a:rPr>
              <a:t>© Visionary Analytics, 201</a:t>
            </a:r>
            <a:r>
              <a:rPr b="0" lang="en-US" sz="1300" spc="-1" strike="noStrike">
                <a:solidFill>
                  <a:srgbClr val="7f7f7f"/>
                </a:solidFill>
                <a:latin typeface="Century Gothic"/>
              </a:rPr>
              <a:t>8</a:t>
            </a:r>
            <a:endParaRPr b="0" lang="en-US" sz="13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Rectangle 3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Century Gothic Bold"/>
              </a:rPr>
              <a:t>Cost-effectiveness analysis </a:t>
            </a:r>
            <a:endParaRPr b="0" lang="en-US" sz="36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78" name=""/>
          <p:cNvSpPr txBox="1"/>
          <p:nvPr/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54a6f"/>
                </a:solidFill>
                <a:latin typeface="Century Gothic"/>
              </a:rPr>
              <a:t>Inside the box: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54a6f"/>
                </a:solidFill>
                <a:latin typeface="Century Gothic"/>
              </a:rPr>
              <a:t>Cost-benefit analysis as a method that is unsuitable for the evaluation of social interventions 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54a6f"/>
                </a:solidFill>
                <a:latin typeface="Century Gothic"/>
              </a:rPr>
              <a:t>Impossible to get the necessary data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54a6f"/>
                </a:solidFill>
                <a:latin typeface="Century Gothic"/>
              </a:rPr>
              <a:t>An inflexible method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Rectangle 3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Century Gothic Bold"/>
              </a:rPr>
              <a:t>Cost-effectiveness analysis </a:t>
            </a:r>
            <a:endParaRPr b="0" lang="en-US" sz="36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81" name=""/>
          <p:cNvSpPr txBox="1"/>
          <p:nvPr/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54a6f"/>
                </a:solidFill>
                <a:latin typeface="Century Gothic"/>
              </a:rPr>
              <a:t>Outside the box: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54a6f"/>
                </a:solidFill>
                <a:latin typeface="Century Gothic"/>
              </a:rPr>
              <a:t>Labour Exchange </a:t>
            </a:r>
            <a:r>
              <a:rPr b="0" lang="lt-LT" sz="2800" spc="-1" strike="noStrike">
                <a:solidFill>
                  <a:srgbClr val="054a6f"/>
                </a:solidFill>
                <a:latin typeface="Century Gothic"/>
              </a:rPr>
              <a:t>O</a:t>
            </a:r>
            <a:r>
              <a:rPr b="0" lang="en-US" sz="2800" spc="-1" strike="noStrike">
                <a:solidFill>
                  <a:srgbClr val="054a6f"/>
                </a:solidFill>
                <a:latin typeface="Century Gothic"/>
              </a:rPr>
              <a:t>ffice combining different datasets and providing necessary data 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54a6f"/>
                </a:solidFill>
                <a:latin typeface="Century Gothic"/>
              </a:rPr>
              <a:t>Cost-effectiveness analysis of trainings for unemployed 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375840" y="13078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54a6f"/>
                </a:solidFill>
                <a:latin typeface="Century Gothic Bold"/>
              </a:rPr>
              <a:t>Strengths: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84" name=""/>
          <p:cNvSpPr txBox="1"/>
          <p:nvPr/>
        </p:nvSpPr>
        <p:spPr>
          <a:xfrm>
            <a:off x="-36720" y="1915920"/>
            <a:ext cx="4608360" cy="395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54a6f"/>
                </a:solidFill>
                <a:latin typeface="Century Gothic"/>
              </a:rPr>
              <a:t>Possibility to evaluate the real impact of trainings in numbers</a:t>
            </a: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54a6f"/>
                </a:solidFill>
                <a:latin typeface="Century Gothic"/>
              </a:rPr>
              <a:t>Identification of indicators that affect the results (e.g. the price of training courses)</a:t>
            </a: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54a6f"/>
                </a:solidFill>
                <a:latin typeface="Century Gothic"/>
              </a:rPr>
              <a:t>Comparison of different trainings as well as comparison of trainings and other active labour market measures</a:t>
            </a: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571640" y="129024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54a6f"/>
                </a:solidFill>
                <a:latin typeface="Century Gothic Bold"/>
              </a:rPr>
              <a:t>Limitations: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86" name=""/>
          <p:cNvSpPr txBox="1"/>
          <p:nvPr/>
        </p:nvSpPr>
        <p:spPr>
          <a:xfrm>
            <a:off x="4664160" y="1959120"/>
            <a:ext cx="4479840" cy="48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54a6f"/>
                </a:solidFill>
                <a:latin typeface="Century Gothic"/>
              </a:rPr>
              <a:t>Does not show whether results were determined by trainings or other factors</a:t>
            </a: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54a6f"/>
                </a:solidFill>
                <a:latin typeface="Century Gothic"/>
              </a:rPr>
              <a:t>The method can be applied only for an evaluation of particular measures and trainings (e.g. if the expected result cannot be monetised or turned into a binary variable, the method is unsuitable)</a:t>
            </a: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87" name="Rectangle 7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88" name="Title 1"/>
          <p:cNvSpPr/>
          <p:nvPr/>
        </p:nvSpPr>
        <p:spPr>
          <a:xfrm>
            <a:off x="457200" y="189000"/>
            <a:ext cx="82296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Century Gothic Bold"/>
                <a:ea typeface="Arial"/>
              </a:rPr>
              <a:t>Cost-effectiveness analysis </a:t>
            </a:r>
            <a:endParaRPr b="0" lang="en-US" sz="36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Rectangle 3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Century Gothic Bold"/>
              </a:rPr>
              <a:t>Conclusions and </a:t>
            </a:r>
            <a:r>
              <a:rPr b="0" lang="en-GB" sz="3600" spc="-1" strike="noStrike">
                <a:solidFill>
                  <a:srgbClr val="ffffff"/>
                </a:solidFill>
                <a:latin typeface="Century Gothic Bold"/>
              </a:rPr>
              <a:t>the </a:t>
            </a:r>
            <a:r>
              <a:rPr b="0" lang="lt-LT" sz="3600" spc="-1" strike="noStrike">
                <a:solidFill>
                  <a:srgbClr val="ffffff"/>
                </a:solidFill>
                <a:latin typeface="Century Gothic Bold"/>
              </a:rPr>
              <a:t>main ideas</a:t>
            </a:r>
            <a:endParaRPr b="0" lang="en-US" sz="36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91" name=""/>
          <p:cNvSpPr txBox="1"/>
          <p:nvPr/>
        </p:nvSpPr>
        <p:spPr>
          <a:xfrm>
            <a:off x="457200" y="1773000"/>
            <a:ext cx="868680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54a6f"/>
                </a:solidFill>
                <a:latin typeface="Century Gothic Bold"/>
              </a:rPr>
              <a:t>No method is universal: combination of different methods is the only solution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54a6f"/>
                </a:solidFill>
                <a:latin typeface="Century Gothic Bold"/>
              </a:rPr>
              <a:t>Data exists (somewhere) but we need to make an effort to “find” it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54a6f"/>
                </a:solidFill>
                <a:latin typeface="Century Gothic Bold"/>
              </a:rPr>
              <a:t>The real aim of evaluations: to suggest ideas how to “get out” of the box 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54a6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Rectangle 12"/>
          <p:cNvSpPr/>
          <p:nvPr/>
        </p:nvSpPr>
        <p:spPr>
          <a:xfrm>
            <a:off x="3492360" y="2398680"/>
            <a:ext cx="4104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Thank 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y</a:t>
            </a:r>
            <a:r>
              <a:rPr b="1" lang="lt-LT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ou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for your attention!</a:t>
            </a:r>
            <a:endParaRPr b="0" lang="en-US" sz="3200" spc="-1" strike="noStrike">
              <a:solidFill>
                <a:srgbClr val="054a6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2af00"/>
                </a:solidFill>
                <a:latin typeface="Arial"/>
                <a:ea typeface="Arial"/>
              </a:rPr>
              <a:t>Let’s discuss</a:t>
            </a:r>
            <a:endParaRPr b="0" lang="en-US" sz="32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93" name="Rectangle 4"/>
          <p:cNvSpPr/>
          <p:nvPr/>
        </p:nvSpPr>
        <p:spPr>
          <a:xfrm>
            <a:off x="0" y="0"/>
            <a:ext cx="277164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pic>
        <p:nvPicPr>
          <p:cNvPr id="894" name="Picture 3" descr="L:\Visionary Analytics\Logo\Brand\Baltas logo 300 dpi spaudai-01.jpg"/>
          <p:cNvPicPr/>
          <p:nvPr/>
        </p:nvPicPr>
        <p:blipFill>
          <a:blip r:embed="rId1">
            <a:lum contrast="10000"/>
          </a:blip>
          <a:stretch/>
        </p:blipFill>
        <p:spPr>
          <a:xfrm>
            <a:off x="0" y="0"/>
            <a:ext cx="2771640" cy="1386000"/>
          </a:xfrm>
          <a:prstGeom prst="rect">
            <a:avLst/>
          </a:prstGeom>
          <a:ln w="0">
            <a:noFill/>
          </a:ln>
        </p:spPr>
      </p:pic>
      <p:sp>
        <p:nvSpPr>
          <p:cNvPr id="895" name="Rectangle 7"/>
          <p:cNvSpPr/>
          <p:nvPr/>
        </p:nvSpPr>
        <p:spPr>
          <a:xfrm>
            <a:off x="250920" y="6308640"/>
            <a:ext cx="23050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300" spc="-1" strike="noStrike">
                <a:solidFill>
                  <a:srgbClr val="7f7f7f"/>
                </a:solidFill>
                <a:latin typeface="Century Gothic"/>
              </a:rPr>
              <a:t>© Visionary Analytics, 201</a:t>
            </a:r>
            <a:r>
              <a:rPr b="0" lang="en-US" sz="1300" spc="-1" strike="noStrike">
                <a:solidFill>
                  <a:srgbClr val="7f7f7f"/>
                </a:solidFill>
                <a:latin typeface="Century Gothic"/>
              </a:rPr>
              <a:t>8</a:t>
            </a:r>
            <a:endParaRPr b="0" lang="en-US" sz="13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96" name="Rectangle 13"/>
          <p:cNvSpPr/>
          <p:nvPr/>
        </p:nvSpPr>
        <p:spPr>
          <a:xfrm>
            <a:off x="250920" y="4653000"/>
            <a:ext cx="230508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54a6f"/>
                </a:solidFill>
                <a:latin typeface="Century Gothic"/>
                <a:ea typeface="Arial"/>
              </a:rPr>
              <a:t>Raimonda Mackeviciute</a:t>
            </a:r>
            <a:endParaRPr b="0" lang="en-US" sz="1400" spc="-1" strike="noStrike">
              <a:solidFill>
                <a:srgbClr val="054a6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2af00"/>
                </a:solidFill>
                <a:latin typeface="Century Gothic"/>
                <a:ea typeface="Arial"/>
              </a:rPr>
              <a:t>Junior Researcher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200" spc="-1" strike="noStrike">
                <a:solidFill>
                  <a:srgbClr val="f2af00"/>
                </a:solidFill>
                <a:latin typeface="Century Gothic"/>
                <a:ea typeface="Arial"/>
              </a:rPr>
              <a:t>Visionary Analytics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  <p:pic>
        <p:nvPicPr>
          <p:cNvPr id="897" name="Picture 8" descr="C:\Users\user\Desktop\FOTO\0X5A2886.jpg"/>
          <p:cNvPicPr/>
          <p:nvPr/>
        </p:nvPicPr>
        <p:blipFill>
          <a:blip r:embed="rId2"/>
          <a:stretch/>
        </p:blipFill>
        <p:spPr>
          <a:xfrm>
            <a:off x="317520" y="1708200"/>
            <a:ext cx="22384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Rectangle 3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Century Gothic Bold"/>
              </a:rPr>
              <a:t>Object of the evaluation</a:t>
            </a:r>
            <a:endParaRPr b="0" lang="en-US" sz="36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08" name=""/>
          <p:cNvSpPr txBox="1"/>
          <p:nvPr/>
        </p:nvSpPr>
        <p:spPr>
          <a:xfrm>
            <a:off x="45720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54a6f"/>
                </a:solidFill>
                <a:latin typeface="Century Gothic"/>
              </a:rPr>
              <a:t>Training courses funded by </a:t>
            </a:r>
            <a:r>
              <a:rPr b="1" lang="en-GB" sz="2400" spc="-1" strike="noStrike">
                <a:solidFill>
                  <a:srgbClr val="054a6f"/>
                </a:solidFill>
                <a:latin typeface="Century Gothic"/>
              </a:rPr>
              <a:t>the </a:t>
            </a:r>
            <a:r>
              <a:rPr b="1" lang="lt-LT" sz="2400" spc="-1" strike="noStrike">
                <a:solidFill>
                  <a:srgbClr val="054a6f"/>
                </a:solidFill>
                <a:latin typeface="Century Gothic"/>
              </a:rPr>
              <a:t>European Social Fund in Lithuania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</p:txBody>
      </p:sp>
      <p:pic>
        <p:nvPicPr>
          <p:cNvPr id="809" name="Picture 2" descr=""/>
          <p:cNvPicPr/>
          <p:nvPr/>
        </p:nvPicPr>
        <p:blipFill>
          <a:blip r:embed="rId1"/>
          <a:stretch/>
        </p:blipFill>
        <p:spPr>
          <a:xfrm>
            <a:off x="0" y="3357720"/>
            <a:ext cx="478800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3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Century Gothic Bold"/>
              </a:rPr>
              <a:t>Methodological innovations:</a:t>
            </a:r>
            <a:endParaRPr b="0" lang="en-US" sz="36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12" name=""/>
          <p:cNvSpPr txBox="1"/>
          <p:nvPr/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2999"/>
              </a:spcBef>
              <a:buClr>
                <a:srgbClr val="054a6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54a6f"/>
                </a:solidFill>
                <a:latin typeface="Century Gothic"/>
              </a:rPr>
              <a:t>Survey of ALL beneficiaries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 marL="514440" indent="-514440">
              <a:lnSpc>
                <a:spcPct val="100000"/>
              </a:lnSpc>
              <a:spcBef>
                <a:spcPts val="2999"/>
              </a:spcBef>
              <a:buClr>
                <a:srgbClr val="054a6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54a6f"/>
                </a:solidFill>
                <a:latin typeface="Century Gothic"/>
              </a:rPr>
              <a:t>Usage of big labour market data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 marL="514440" indent="-514440">
              <a:lnSpc>
                <a:spcPct val="100000"/>
              </a:lnSpc>
              <a:spcBef>
                <a:spcPts val="2999"/>
              </a:spcBef>
              <a:buClr>
                <a:srgbClr val="054a6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54a6f"/>
                </a:solidFill>
                <a:latin typeface="Century Gothic"/>
              </a:rPr>
              <a:t>Real-time m</a:t>
            </a:r>
            <a:r>
              <a:rPr b="1" lang="en-GB" sz="2800" spc="-1" strike="noStrike">
                <a:solidFill>
                  <a:srgbClr val="054a6f"/>
                </a:solidFill>
                <a:latin typeface="Century Gothic"/>
              </a:rPr>
              <a:t>onitoring of trainings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 marL="514440" indent="-514440">
              <a:lnSpc>
                <a:spcPct val="100000"/>
              </a:lnSpc>
              <a:spcBef>
                <a:spcPts val="2999"/>
              </a:spcBef>
              <a:buClr>
                <a:srgbClr val="054a6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54a6f"/>
                </a:solidFill>
                <a:latin typeface="Century Gothic"/>
              </a:rPr>
              <a:t>Cost-effectiveness analysis 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611280" y="278136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2af00"/>
                </a:solidFill>
                <a:latin typeface="Century Gothic Bold"/>
              </a:rPr>
              <a:t>Survey of ALL beneficiaries</a:t>
            </a:r>
            <a:endParaRPr b="0" lang="en-US" sz="36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15" name=""/>
          <p:cNvSpPr txBox="1"/>
          <p:nvPr/>
        </p:nvSpPr>
        <p:spPr>
          <a:xfrm>
            <a:off x="457200" y="5013000"/>
            <a:ext cx="8686800" cy="111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entury Gothic"/>
              </a:rPr>
              <a:t>Aim: to hear the beneficiaries‘ opinion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Rectangle 3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17" name=""/>
          <p:cNvSpPr txBox="1"/>
          <p:nvPr/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54a6f"/>
                </a:solidFill>
                <a:latin typeface="Century Gothic"/>
              </a:rPr>
              <a:t>Inside the box: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54a6f"/>
                </a:solidFill>
                <a:latin typeface="Century Gothic"/>
              </a:rPr>
              <a:t>Contacts are not available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54a6f"/>
                </a:solidFill>
                <a:latin typeface="Century Gothic"/>
              </a:rPr>
              <a:t>Large scale surveys might be implemented only by survey companies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54a6f"/>
                </a:solidFill>
                <a:latin typeface="Century Gothic"/>
              </a:rPr>
              <a:t>Representative sample is always the answer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54a6f"/>
                </a:solidFill>
                <a:latin typeface="Century Gothic"/>
              </a:rPr>
              <a:t>Small surveys about selected cases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Century Gothic Bold"/>
              </a:rPr>
              <a:t>Survey of ALL beneficiaries</a:t>
            </a:r>
            <a:endParaRPr b="0" lang="en-US" sz="3600" spc="-1" strike="noStrike">
              <a:solidFill>
                <a:srgbClr val="054a6f"/>
              </a:solidFill>
              <a:latin typeface="Century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Rectangle 3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20" name=""/>
          <p:cNvSpPr txBox="1"/>
          <p:nvPr/>
        </p:nvSpPr>
        <p:spPr>
          <a:xfrm>
            <a:off x="457200" y="2099880"/>
            <a:ext cx="868680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54a6f"/>
                </a:solidFill>
                <a:latin typeface="Century Gothic"/>
              </a:rPr>
              <a:t>Outside the box: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54a6f"/>
                </a:solidFill>
                <a:latin typeface="Century Gothic"/>
              </a:rPr>
              <a:t>Requesting contact details 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54a6f"/>
                </a:solidFill>
                <a:latin typeface="Century Gothic"/>
              </a:rPr>
              <a:t>Survey of 100,000 trainings‘ participants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54a6f"/>
                </a:solidFill>
                <a:latin typeface="Century Gothic"/>
              </a:rPr>
              <a:t>Combination of online survey tools and coding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Century Gothic Bold"/>
              </a:rPr>
              <a:t>Survey of ALL beneficiaries</a:t>
            </a:r>
            <a:endParaRPr b="0" lang="en-US" sz="3600" spc="-1" strike="noStrike">
              <a:solidFill>
                <a:srgbClr val="054a6f"/>
              </a:solidFill>
              <a:latin typeface="Century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54a6f"/>
                </a:solidFill>
                <a:latin typeface="Century Gothic Bold"/>
              </a:rPr>
              <a:t>Strengths: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24" name=""/>
          <p:cNvSpPr txBox="1"/>
          <p:nvPr/>
        </p:nvSpPr>
        <p:spPr>
          <a:xfrm>
            <a:off x="-360" y="2174760"/>
            <a:ext cx="44974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54a6f"/>
                </a:solidFill>
                <a:latin typeface="Century Gothic"/>
              </a:rPr>
              <a:t>Many</a:t>
            </a:r>
            <a:r>
              <a:rPr b="0" lang="en-GB" sz="2400" spc="-1" strike="noStrike">
                <a:solidFill>
                  <a:srgbClr val="054a6f"/>
                </a:solidFill>
                <a:latin typeface="Century Gothic"/>
              </a:rPr>
              <a:t> more answers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54a6f"/>
                </a:solidFill>
                <a:latin typeface="Century Gothic"/>
              </a:rPr>
              <a:t>Answers </a:t>
            </a:r>
            <a:r>
              <a:rPr b="0" lang="lt-LT" sz="2400" spc="-1" strike="noStrike">
                <a:solidFill>
                  <a:srgbClr val="054a6f"/>
                </a:solidFill>
                <a:latin typeface="Century Gothic"/>
              </a:rPr>
              <a:t>to</a:t>
            </a:r>
            <a:r>
              <a:rPr b="0" lang="en-GB" sz="2400" spc="-1" strike="noStrike">
                <a:solidFill>
                  <a:srgbClr val="054a6f"/>
                </a:solidFill>
                <a:latin typeface="Century Gothic"/>
              </a:rPr>
              <a:t> open</a:t>
            </a:r>
            <a:r>
              <a:rPr b="0" lang="lt-LT" sz="2400" spc="-1" strike="noStrike">
                <a:solidFill>
                  <a:srgbClr val="054a6f"/>
                </a:solidFill>
                <a:latin typeface="Century Gothic"/>
              </a:rPr>
              <a:t>-ended</a:t>
            </a:r>
            <a:r>
              <a:rPr b="0" lang="en-GB" sz="2400" spc="-1" strike="noStrike">
                <a:solidFill>
                  <a:srgbClr val="054a6f"/>
                </a:solidFill>
                <a:latin typeface="Century Gothic"/>
              </a:rPr>
              <a:t> questions: ideas where else to look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54a6f"/>
                </a:solidFill>
                <a:latin typeface="Century Gothic"/>
              </a:rPr>
              <a:t>Possibility to analyse answers on </a:t>
            </a:r>
            <a:r>
              <a:rPr b="0" lang="lt-LT" sz="2400" spc="-1" strike="noStrike">
                <a:solidFill>
                  <a:srgbClr val="054a6f"/>
                </a:solidFill>
                <a:latin typeface="Century Gothic"/>
              </a:rPr>
              <a:t>a</a:t>
            </a:r>
            <a:r>
              <a:rPr b="0" lang="en-GB" sz="2400" spc="-1" strike="noStrike">
                <a:solidFill>
                  <a:srgbClr val="054a6f"/>
                </a:solidFill>
                <a:latin typeface="Century Gothic"/>
              </a:rPr>
              <a:t> particular level (e.g. financial instruments)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54a6f"/>
                </a:solidFill>
                <a:latin typeface="Century Gothic Bold"/>
              </a:rPr>
              <a:t>Limitations: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26" name=""/>
          <p:cNvSpPr txBox="1"/>
          <p:nvPr/>
        </p:nvSpPr>
        <p:spPr>
          <a:xfrm>
            <a:off x="4644720" y="2174760"/>
            <a:ext cx="44989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54a6f"/>
                </a:solidFill>
                <a:latin typeface="Century Gothic"/>
              </a:rPr>
              <a:t>Typical weaknesses of survey methods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54a6f"/>
                </a:solidFill>
                <a:latin typeface="Century Gothic"/>
              </a:rPr>
              <a:t>GDPR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54a6f"/>
                </a:solidFill>
                <a:latin typeface="Century Gothic"/>
              </a:rPr>
              <a:t>Time</a:t>
            </a:r>
            <a:r>
              <a:rPr b="0" lang="lt-LT" sz="2400" spc="-1" strike="noStrike">
                <a:solidFill>
                  <a:srgbClr val="054a6f"/>
                </a:solidFill>
                <a:latin typeface="Century Gothic"/>
              </a:rPr>
              <a:t>-</a:t>
            </a:r>
            <a:r>
              <a:rPr b="0" lang="en-GB" sz="2400" spc="-1" strike="noStrike">
                <a:solidFill>
                  <a:srgbClr val="054a6f"/>
                </a:solidFill>
                <a:latin typeface="Century Gothic"/>
              </a:rPr>
              <a:t>consuming 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27" name="Footer Placeholder 6"/>
          <p:cNvSpPr/>
          <p:nvPr/>
        </p:nvSpPr>
        <p:spPr>
          <a:xfrm>
            <a:off x="46836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95a4"/>
                </a:solidFill>
                <a:latin typeface="Century Gothic"/>
              </a:rPr>
              <a:t>© Visionary Analytics, 201</a:t>
            </a:r>
            <a:r>
              <a:rPr b="0" lang="en-US" sz="1200" spc="-1" strike="noStrike">
                <a:solidFill>
                  <a:srgbClr val="8995a4"/>
                </a:solidFill>
                <a:latin typeface="Century Gothic"/>
              </a:rPr>
              <a:t>8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28" name="Rectangle 7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29" name="Title 1"/>
          <p:cNvSpPr/>
          <p:nvPr/>
        </p:nvSpPr>
        <p:spPr>
          <a:xfrm>
            <a:off x="457200" y="189000"/>
            <a:ext cx="82296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Century Gothic Bold"/>
                <a:ea typeface="Arial"/>
              </a:rPr>
              <a:t>Survey of ALL beneficiaries</a:t>
            </a:r>
            <a:endParaRPr b="0" lang="en-US" sz="36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611280" y="278136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2af00"/>
                </a:solidFill>
                <a:latin typeface="Century Gothic Bold"/>
              </a:rPr>
              <a:t>Usage of big labour market data</a:t>
            </a:r>
            <a:endParaRPr b="0" lang="en-US" sz="36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32" name=""/>
          <p:cNvSpPr txBox="1"/>
          <p:nvPr/>
        </p:nvSpPr>
        <p:spPr>
          <a:xfrm>
            <a:off x="457200" y="5013000"/>
            <a:ext cx="8686800" cy="111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Aim: to evaluate whether funded trainings match the needs of </a:t>
            </a:r>
            <a:r>
              <a:rPr b="0" lang="lt-LT" sz="2800" spc="-1" strike="noStrike">
                <a:solidFill>
                  <a:srgbClr val="ffffff"/>
                </a:solidFill>
                <a:latin typeface="Century Gothic"/>
              </a:rPr>
              <a:t>the 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labour market 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5T07:44:50Z</dcterms:created>
  <dc:creator>Zilvinas</dc:creator>
  <dc:description/>
  <dc:language>en-US</dc:language>
  <cp:lastModifiedBy>Jansová Lenka</cp:lastModifiedBy>
  <dcterms:modified xsi:type="dcterms:W3CDTF">2018-09-28T09:25:13Z</dcterms:modified>
  <cp:revision>37</cp:revision>
  <dc:subject/>
  <dc:title>Jaunimo geografinis, profesinis ir socialinis judumas: efektyvesnės ekonomikos ir teisingesnės visuomenės link</dc:title>
</cp:coreProperties>
</file>